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8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26T23:17:54.174000000" idx="2">
    <p:pos x="1478" y="547"/>
    <p:text/>
  </p:cm>
</p:cmLst>
</file>

<file path=ppt/comments/comment8.xml><?xml version="1.0" encoding="utf-8"?>
<p:cmLst xmlns:p="http://schemas.openxmlformats.org/presentationml/2006/main">
  <p:cm authorId="0" dt="2016-08-26T23:17:47.910000000" idx="1">
    <p:pos x="5329" y="152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FC1-9C0E-422E-8A65-AEAB1953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B32-0CB9-4C6C-95AE-D8ADFC4E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F38D6-3C14-4622-98FF-480F2E34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854A8-1096-46A1-A8EE-20B059AE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D2053-E07A-4BE5-B07B-E7D5F618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4F3AA-B20B-4F45-8505-8F326EE2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BB338-5804-4593-ADDB-597BA25A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AB8C7-1305-450D-89DA-FD43C05A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9AB1F-D93B-4EAA-B0F2-BB1E07C9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31985-46D1-4690-8F2F-E95AFFE8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0122F-888F-43A5-8892-4B80D040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035B7-6C70-466F-A921-577BFDD0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0CA-6118-4061-AA83-BB426522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1AE30-71D6-429B-A75E-6829E1EF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0464B-018C-461C-8586-347B1D3A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E05BD-881C-4C2A-854F-A1868D04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FA729-2FB4-45DF-85C4-C58A0A84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F93E0-F221-4663-B3D4-AF7450FF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3B6DB-3539-46A4-B9D1-624C920A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2A1D9-5A1B-4DCD-9704-1660D2E3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89504-72BE-4856-96D4-CEB403C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D29B0-7E5F-42BD-B197-6C174451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F46D0-7EAF-49DB-BBED-62A4D6C7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C12-F27B-4E54-9AB9-79603CCE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6594E-1597-49D8-AB91-C0A4E872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CA52F-24EC-4ECE-B9D9-2F702A1A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AF39A-EFD6-422E-B539-9D9609B0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1CEE6-C0E6-43D9-9656-E40E3330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91CDD-F387-467A-820C-3DB55044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56D04-0146-4FF0-829B-64EB9E01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E5496-FF5E-4BAF-9432-D81D2F19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3FC0A-AA08-4C46-8CF8-2E4B2843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D9B88-8B50-4CCA-A49E-9B09ACF1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82EAA-2CD4-45B7-9A90-8EE105F7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6184-228D-4FAD-B6B5-950BC59B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97AA1-F726-414B-AE86-9856DEDB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146DA-7484-414C-BE63-1F6CDC39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1412F-8E63-4D67-AEDD-385B4097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B5C0B-FDAE-4B24-B851-1FFEDB79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34602-307E-4F1A-A691-C7BCF9D7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49F1E-CAEB-4C1F-8ADE-59D77D12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C0078-1D81-41F2-8F9A-28869411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D0089-F66B-4340-B58A-6074933F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C11C2-39B7-4928-B572-63E648DD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558FF-C015-49D3-BBEB-05E3DCAE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6E7E-E1DD-44E6-919B-75D978B8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DBEF0-002B-46DD-85D3-9606E0CB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88F49-5369-4CAD-8370-44A283B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63D37-4890-4091-A9A0-4D151B9C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56753-A0B3-48CE-9777-A3A4DD66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5367C-5418-47A2-A884-85DBACBE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9106-E74E-420C-9C1A-9D6C20E8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21CE-57E7-4641-BB75-5263ED11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63BD-FC88-4DCA-B9CC-753A5150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5A8A-E92A-4DDA-81B4-5EC6C443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A1C1-18A6-4DE8-AC76-1055A94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C86-0BF2-421B-AD77-14AF459F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A8A6-031A-48D4-BB28-E89E853C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6464-EAC0-4372-BD98-3C27B84B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3279-FF49-496D-BC8D-E1DD16A7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ADE9-8A52-42DB-9694-516BE12A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E452-8D2C-4733-B3A6-E963811E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70FE-B645-45D8-ACEA-4DDFB67B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7B24-A13D-4251-810E-396CC310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40D4-2FF9-436E-AD79-76F6DD5C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5529-D37A-47B4-8DDB-6F002F96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2964-9EDF-45C9-B0C9-15620FA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1EB-92F4-4F2A-910C-AD2DA63A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A1247-C736-4B63-8E4A-AA1E7D5D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6DB8-EC16-4DB8-920F-EE629403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AA9A-1803-4145-91E5-49CA8943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3A77-236C-448A-B385-0F04D6FA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96DC-B437-4B58-BEF9-2F4B6ECE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30EF-735C-4CE1-BFFD-8B6F149E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9D01-CDBC-4D0A-A898-20496F31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6EAC8-D005-4FC5-BA2B-CF3622CB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861F7-7311-4EFF-A6A6-EBFF14AF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EC365-10E0-4CCA-B77C-4A9FFD4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4D4-E97B-41FE-8CDA-A035ECFC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C3CB-ED8F-4102-9F6B-4FE4A041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8AC7C-A28E-4295-B3F1-18EB45F0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13FB7-4821-4774-B17B-5FCDD1AA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1FAE-4D14-48FF-A501-952C310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753D-A54F-4E73-B0AA-897BB712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8EA8-A81A-4049-BE01-581C0EB5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7DC8-73BD-4957-8423-486F9EE1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06F74-F771-4578-BB22-281CF35D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1989-2B58-43B1-A145-70851472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DCEF5-98D2-4AA1-BF4C-2F557CED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0D6-BDB2-4B6F-98B4-AE17D0BF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1621E-B3A7-43C5-8778-789F1D8A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4F1CA-FD65-4DA4-8AF0-2351AA70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1C5E9-DE29-4B31-A21E-0C5E58E5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2B118-23F9-4A64-91FE-AA1B25CC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2D91B-8AD6-495C-8EDE-FD2E033C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EB80-9AE2-4F4D-B00F-CECDAB6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D89A8-33AF-4A0B-91F2-3C51F40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9DD5-2EFE-47A1-8933-C8A593D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46637-A9A7-4769-9EF6-84241D15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E91C9-871A-4839-B4F3-C2971D3A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8DE-2A8C-449A-A17E-4EDE213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D41C9-D46E-418D-AEE7-6A7DCDB7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4D98F-F5B6-4F02-9F37-5DCF38AF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D2CF-6108-4E6E-8EE6-63E5CFC4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70C68-DA65-417E-9762-78E6C72C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0C024-FDAB-40CD-B2CC-EBAB61B4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D3CF-34FD-47BB-BA62-31302BC9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9871B-3EF4-4AA5-8AA5-0646188C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CA4DD-6580-4B03-BAD4-C8DD147C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5FB84-9057-4BD4-94CC-E2F4B1C5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E4974-EE90-47CE-A62B-89DFD65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E4A-A659-4F7A-9228-FB9660EE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E9B65-A074-4431-A33F-FD2F356D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B9A9-918F-44BE-A7D5-24BA9C91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086E7-FCBA-4DFF-8DFE-AB9491AE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9D22C-7929-469F-ACDC-AA93B42E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69EF3-FFAB-4B88-8B0C-65790375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46BF-7912-4CF1-BCE9-3D89D8F5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D4DF-F120-488A-9518-43911C2F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86E81-2253-43F3-A776-D776A7FB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49DE2-5AEF-4944-A406-7E4BABDD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CEE37-7889-480F-9EC8-2A504124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3F51-11F2-4ACF-85D3-BFCA652B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D907-0BE8-483C-86DA-4D04DA8F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45609-746D-4352-91DD-3098FF13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21AA9-DDED-4D93-94F9-F5935E46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EF376-6B69-40F5-A4ED-7169C225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B90F-CEB6-451F-BC85-5E24D114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14AF9-19B3-415C-955D-215CC98C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9C0AD-254A-47AB-A145-18FF4AB1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FC4A9-EDA3-43A6-A1F9-9379A470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7F95F-C9EC-4DAD-895C-2A5D57A6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E6D92-B725-454D-AD3E-65CD571D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8E3-9F24-4520-AFC6-0269EFE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808AA-2E3A-4309-8A83-4F38D87C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0DE9C-6A7A-4A34-BBD1-5C204192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1D6C6-A8C7-4314-9108-7ACCE03E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D7BDA-C2F7-429C-B899-041A970D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75544-69A3-45DA-B5E4-E6CE2F7E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513E-2051-4342-B820-1DE9E58B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6027C-9BE0-473A-AAD1-63DF8463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0E457-42E9-4046-B124-C130C00E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DC489-7205-46D2-B0C3-43813D22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61B8D-868E-482E-98D1-DCF80996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4116-0D3F-4F8E-815B-58E92C30B44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2771-C7CC-4477-81D0-DF69A0057FB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A524-F1EC-4967-8861-FD9CACF81B1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2DC9-F4BC-4148-B124-29FBDB354D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1369-0A25-4940-A76A-096A04EAB44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C9D7-5110-4794-B376-CBB5C9E0DB8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60CE-EDE1-4C06-89C5-F67973EABCD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5C27-BC82-46DB-B63B-7A8B47CE4B1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503C-8BAB-4C31-857C-C3DFE42B27A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04F-6E3D-4E70-9599-4A752EF177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78DC-6B5E-4614-B50C-BCCF188E29F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E22A-9E0C-4ED6-826A-C866B3FA14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d.exe" TargetMode="External"/><Relationship Id="rId2" Type="http://schemas.openxmlformats.org/officeDocument/2006/relationships/image" Target="../media/image10.png"/><Relationship Id="rId3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t.exe" TargetMode="External"/><Relationship Id="rId4" Type="http://schemas.openxmlformats.org/officeDocument/2006/relationships/image" Target="../media/image11.png"/><Relationship Id="rId5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n.exe" TargetMode="External"/><Relationship Id="rId6" Type="http://schemas.openxmlformats.org/officeDocument/2006/relationships/image" Target="../media/image12.png"/><Relationship Id="rId7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l.exe" TargetMode="Externa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d.wav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d.wav" TargetMode="External"/><Relationship Id="rId5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d.wav" TargetMode="External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t.wav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t.wav" TargetMode="External"/><Relationship Id="rId5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t.wav" TargetMode="External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n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l.wav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l.wav" TargetMode="External"/><Relationship Id="rId5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l.wav" TargetMode="External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1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2" name="矩形 4"/>
          <p:cNvSpPr/>
          <p:nvPr/>
        </p:nvSpPr>
        <p:spPr>
          <a:xfrm>
            <a:off x="3696120" y="649440"/>
            <a:ext cx="294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d t n l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xie_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176560"/>
            <a:ext cx="1486080" cy="2503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xie_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27280" y="2225520"/>
            <a:ext cx="1121040" cy="24228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xie_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03920" y="2168640"/>
            <a:ext cx="1268280" cy="2479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xie_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46800" y="2133720"/>
            <a:ext cx="1349280" cy="2297160"/>
          </a:xfrm>
          <a:prstGeom prst="rect">
            <a:avLst/>
          </a:prstGeom>
          <a:ln w="0">
            <a:noFill/>
          </a:ln>
        </p:spPr>
      </p:pic>
      <p:pic>
        <p:nvPicPr>
          <p:cNvPr id="567" name="矩形 1" descr=""/>
          <p:cNvPicPr/>
          <p:nvPr/>
        </p:nvPicPr>
        <p:blipFill>
          <a:blip r:embed="rId9"/>
          <a:stretch/>
        </p:blipFill>
        <p:spPr>
          <a:xfrm>
            <a:off x="3772080" y="1017720"/>
            <a:ext cx="2312640" cy="1182600"/>
          </a:xfrm>
          <a:prstGeom prst="rect">
            <a:avLst/>
          </a:prstGeom>
          <a:ln w="0">
            <a:noFill/>
          </a:ln>
        </p:spPr>
      </p:pic>
      <p:sp>
        <p:nvSpPr>
          <p:cNvPr id="568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图片 1" descr=""/>
          <p:cNvPicPr/>
          <p:nvPr/>
        </p:nvPicPr>
        <p:blipFill>
          <a:blip r:embed="rId1"/>
          <a:stretch/>
        </p:blipFill>
        <p:spPr>
          <a:xfrm>
            <a:off x="385920" y="907920"/>
            <a:ext cx="8258040" cy="516276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2"/>
          <p:cNvSpPr/>
          <p:nvPr/>
        </p:nvSpPr>
        <p:spPr>
          <a:xfrm>
            <a:off x="457200" y="205740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我会写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1314360" y="30052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d t n l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图片 1" descr=""/>
          <p:cNvPicPr/>
          <p:nvPr/>
        </p:nvPicPr>
        <p:blipFill>
          <a:blip r:embed="rId1"/>
          <a:stretch/>
        </p:blipFill>
        <p:spPr>
          <a:xfrm>
            <a:off x="565200" y="757080"/>
            <a:ext cx="8254800" cy="5193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3768480" y="1687680"/>
            <a:ext cx="62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 Black"/>
                <a:ea typeface="楷体_GB2312"/>
              </a:rPr>
              <a:t>d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510080" y="1676520"/>
            <a:ext cx="56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 Black"/>
                <a:ea typeface="楷体_GB2312"/>
              </a:rPr>
              <a:t>e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3149280" y="2971800"/>
            <a:ext cx="31402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de   dē   dé   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entury Gothic"/>
                <a:ea typeface="楷体_GB2312"/>
              </a:rPr>
              <a:t>ě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 dè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Gothic"/>
                <a:ea typeface="楷体_GB2312"/>
              </a:rPr>
              <a:t>a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 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ā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  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Gothic"/>
                <a:ea typeface="楷体_GB2312"/>
              </a:rPr>
              <a:t>á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 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ǎ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   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entury Gothic"/>
                <a:ea typeface="楷体_GB2312"/>
              </a:rPr>
              <a:t>à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di    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  dí    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ǐ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   dì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du   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ū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 dú   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ǔ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     dù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461880" y="185256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一、我会读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971640" y="2924280"/>
            <a:ext cx="883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b-d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n-m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t-f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i-l  u-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ü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2556000" y="11858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读儿歌，写声母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684360" y="2209680"/>
            <a:ext cx="777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左下半圆就是＿，右下半圆就是＿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右上半圆就是＿，一个门洞就是＿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两个门洞就是＿，一根小棍就是＿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把伞柄就是＿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7" descr=""/>
          <p:cNvPicPr/>
          <p:nvPr/>
        </p:nvPicPr>
        <p:blipFill>
          <a:blip r:embed="rId1"/>
          <a:stretch/>
        </p:blipFill>
        <p:spPr>
          <a:xfrm>
            <a:off x="254160" y="781200"/>
            <a:ext cx="8635680" cy="5181480"/>
          </a:xfrm>
          <a:prstGeom prst="rect">
            <a:avLst/>
          </a:prstGeom>
          <a:ln w="0">
            <a:noFill/>
          </a:ln>
        </p:spPr>
      </p:pic>
      <p:sp>
        <p:nvSpPr>
          <p:cNvPr id="590" name="圆角矩形 8"/>
          <p:cNvSpPr/>
          <p:nvPr/>
        </p:nvSpPr>
        <p:spPr>
          <a:xfrm>
            <a:off x="4363920" y="1557360"/>
            <a:ext cx="3673440" cy="101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圆角矩形 5"/>
          <p:cNvSpPr/>
          <p:nvPr/>
        </p:nvSpPr>
        <p:spPr>
          <a:xfrm>
            <a:off x="468360" y="1557360"/>
            <a:ext cx="3672000" cy="101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圆角矩形 6"/>
          <p:cNvSpPr/>
          <p:nvPr/>
        </p:nvSpPr>
        <p:spPr>
          <a:xfrm>
            <a:off x="5040360" y="2857680"/>
            <a:ext cx="1800000" cy="1582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圆角矩形 1"/>
          <p:cNvSpPr/>
          <p:nvPr/>
        </p:nvSpPr>
        <p:spPr>
          <a:xfrm>
            <a:off x="1547640" y="2857680"/>
            <a:ext cx="1800360" cy="1582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Text Box 2"/>
          <p:cNvSpPr/>
          <p:nvPr/>
        </p:nvSpPr>
        <p:spPr>
          <a:xfrm>
            <a:off x="2001960" y="314172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c3d69b"/>
                </a:solidFill>
                <a:uFillTx/>
                <a:latin typeface="楷体_GB2312"/>
                <a:ea typeface="楷体_GB2312"/>
              </a:rPr>
              <a:t>大       土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755640" y="1557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d  à  </a:t>
            </a:r>
            <a:r>
              <a:rPr b="0" i="1" lang="en-US" sz="6000" spc="-1" strike="noStrike" u="sng">
                <a:solidFill>
                  <a:srgbClr val="00b0f0"/>
                </a:solidFill>
                <a:uFillTx/>
                <a:latin typeface="楷体_GB2312"/>
                <a:ea typeface="楷体_GB2312"/>
              </a:rPr>
              <a:t>dà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4572000" y="1557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t ǔ  </a:t>
            </a:r>
            <a:r>
              <a:rPr b="0" i="1" lang="en-US" sz="6000" spc="-1" strike="noStrike" u="sng">
                <a:solidFill>
                  <a:srgbClr val="00b0f0"/>
                </a:solidFill>
                <a:uFillTx/>
                <a:latin typeface="楷体_GB2312"/>
                <a:ea typeface="楷体_GB2312"/>
              </a:rPr>
              <a:t>tǔ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同侧圆角矩形 13"/>
          <p:cNvSpPr/>
          <p:nvPr/>
        </p:nvSpPr>
        <p:spPr>
          <a:xfrm>
            <a:off x="466560" y="838080"/>
            <a:ext cx="200052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7" descr=""/>
          <p:cNvPicPr/>
          <p:nvPr/>
        </p:nvPicPr>
        <p:blipFill>
          <a:blip r:embed="rId1"/>
          <a:stretch/>
        </p:blipFill>
        <p:spPr>
          <a:xfrm>
            <a:off x="254160" y="781200"/>
            <a:ext cx="8635680" cy="5181480"/>
          </a:xfrm>
          <a:prstGeom prst="rect">
            <a:avLst/>
          </a:prstGeom>
          <a:ln w="0">
            <a:noFill/>
          </a:ln>
        </p:spPr>
      </p:pic>
      <p:sp>
        <p:nvSpPr>
          <p:cNvPr id="599" name="圆角矩形 8"/>
          <p:cNvSpPr/>
          <p:nvPr/>
        </p:nvSpPr>
        <p:spPr>
          <a:xfrm>
            <a:off x="4363920" y="1557360"/>
            <a:ext cx="3673440" cy="101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圆角矩形 5"/>
          <p:cNvSpPr/>
          <p:nvPr/>
        </p:nvSpPr>
        <p:spPr>
          <a:xfrm>
            <a:off x="468360" y="1557360"/>
            <a:ext cx="3672000" cy="101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圆角矩形 6"/>
          <p:cNvSpPr/>
          <p:nvPr/>
        </p:nvSpPr>
        <p:spPr>
          <a:xfrm>
            <a:off x="5040360" y="2857680"/>
            <a:ext cx="1800000" cy="1582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圆角矩形 1"/>
          <p:cNvSpPr/>
          <p:nvPr/>
        </p:nvSpPr>
        <p:spPr>
          <a:xfrm>
            <a:off x="1547640" y="2857680"/>
            <a:ext cx="1800360" cy="1582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2001960" y="314172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c3d69b"/>
                </a:solidFill>
                <a:uFillTx/>
                <a:latin typeface="楷体_GB2312"/>
                <a:ea typeface="楷体_GB2312"/>
              </a:rPr>
              <a:t>你       乐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755640" y="1557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n  ǐ  </a:t>
            </a:r>
            <a:r>
              <a:rPr b="0" i="1" lang="en-US" sz="6000" spc="-1" strike="noStrike" u="sng">
                <a:solidFill>
                  <a:srgbClr val="00b0f0"/>
                </a:solidFill>
                <a:uFillTx/>
                <a:latin typeface="楷体_GB2312"/>
                <a:ea typeface="楷体_GB2312"/>
              </a:rPr>
              <a:t>nǐ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4572000" y="1557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l è  </a:t>
            </a:r>
            <a:r>
              <a:rPr b="0" i="1" lang="en-US" sz="6000" spc="-1" strike="noStrike" u="sng">
                <a:solidFill>
                  <a:srgbClr val="00b0f0"/>
                </a:solidFill>
                <a:uFillTx/>
                <a:latin typeface="楷体_GB2312"/>
                <a:ea typeface="楷体_GB2312"/>
              </a:rPr>
              <a:t>lè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同侧圆角矩形 9"/>
          <p:cNvSpPr/>
          <p:nvPr/>
        </p:nvSpPr>
        <p:spPr>
          <a:xfrm>
            <a:off x="466560" y="838080"/>
            <a:ext cx="200052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1" descr=""/>
          <p:cNvPicPr/>
          <p:nvPr/>
        </p:nvPicPr>
        <p:blipFill>
          <a:blip r:embed="rId1"/>
          <a:stretch/>
        </p:blipFill>
        <p:spPr>
          <a:xfrm>
            <a:off x="436680" y="628560"/>
            <a:ext cx="8283600" cy="56088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2"/>
          <p:cNvSpPr/>
          <p:nvPr/>
        </p:nvSpPr>
        <p:spPr>
          <a:xfrm>
            <a:off x="3220920" y="12412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我会连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304920" y="2133720"/>
            <a:ext cx="883908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tǔ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d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ì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d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à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mǐ 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shù pí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树皮　　土地　　大米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0" name="Group 4"/>
          <p:cNvGrpSpPr/>
          <p:nvPr/>
        </p:nvGrpSpPr>
        <p:grpSpPr>
          <a:xfrm>
            <a:off x="1692000" y="3068640"/>
            <a:ext cx="5258160" cy="1752480"/>
            <a:chOff x="1692000" y="3068640"/>
            <a:chExt cx="5258160" cy="1752480"/>
          </a:xfrm>
        </p:grpSpPr>
        <p:grpSp>
          <p:nvGrpSpPr>
            <p:cNvPr id="611" name=""/>
            <p:cNvGrpSpPr/>
            <p:nvPr/>
          </p:nvGrpSpPr>
          <p:grpSpPr>
            <a:xfrm>
              <a:off x="1920960" y="3068640"/>
              <a:ext cx="2651040" cy="1676520"/>
              <a:chOff x="1920960" y="3068640"/>
              <a:chExt cx="2651040" cy="1676520"/>
            </a:xfrm>
          </p:grpSpPr>
          <p:sp>
            <p:nvSpPr>
              <p:cNvPr id="612" name="Line 5"/>
              <p:cNvSpPr/>
              <p:nvPr/>
            </p:nvSpPr>
            <p:spPr>
              <a:xfrm>
                <a:off x="1920960" y="3068640"/>
                <a:ext cx="2651040" cy="16765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3" name=""/>
              <p:cNvSpPr txBox="1"/>
              <p:nvPr/>
            </p:nvSpPr>
            <p:spPr>
              <a:xfrm>
                <a:off x="1920960" y="3068640"/>
                <a:ext cx="265104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1692000" y="3144960"/>
              <a:ext cx="5258160" cy="1600200"/>
              <a:chOff x="1692000" y="3144960"/>
              <a:chExt cx="5258160" cy="1600200"/>
            </a:xfrm>
          </p:grpSpPr>
          <p:sp>
            <p:nvSpPr>
              <p:cNvPr id="615" name="Line 6"/>
              <p:cNvSpPr/>
              <p:nvPr/>
            </p:nvSpPr>
            <p:spPr>
              <a:xfrm flipH="1">
                <a:off x="1692000" y="3144960"/>
                <a:ext cx="5257800" cy="1600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6" name=""/>
              <p:cNvSpPr txBox="1"/>
              <p:nvPr/>
            </p:nvSpPr>
            <p:spPr>
              <a:xfrm>
                <a:off x="1692360" y="3144960"/>
                <a:ext cx="525780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969080" y="3144960"/>
              <a:ext cx="1981080" cy="1676160"/>
              <a:chOff x="4969080" y="3144960"/>
              <a:chExt cx="1981080" cy="1676160"/>
            </a:xfrm>
          </p:grpSpPr>
          <p:sp>
            <p:nvSpPr>
              <p:cNvPr id="618" name="Line 7"/>
              <p:cNvSpPr/>
              <p:nvPr/>
            </p:nvSpPr>
            <p:spPr>
              <a:xfrm>
                <a:off x="4969080" y="3144960"/>
                <a:ext cx="1981080" cy="16761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>
                <a:off x="4969080" y="3144960"/>
                <a:ext cx="1981080" cy="167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20" name="同侧圆角矩形 13"/>
          <p:cNvSpPr/>
          <p:nvPr/>
        </p:nvSpPr>
        <p:spPr>
          <a:xfrm>
            <a:off x="466560" y="838080"/>
            <a:ext cx="200052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1" descr=""/>
          <p:cNvPicPr/>
          <p:nvPr/>
        </p:nvPicPr>
        <p:blipFill>
          <a:blip r:embed="rId1"/>
          <a:stretch/>
        </p:blipFill>
        <p:spPr>
          <a:xfrm>
            <a:off x="311040" y="692280"/>
            <a:ext cx="8582040" cy="547344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2"/>
          <p:cNvSpPr/>
          <p:nvPr/>
        </p:nvSpPr>
        <p:spPr>
          <a:xfrm>
            <a:off x="1835280" y="1905120"/>
            <a:ext cx="66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悟空本领特（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t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别大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天兵天将全不怕（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p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打（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d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败哪吒三太（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t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子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乐（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l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得悟空笑哈哈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73644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儿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3">
            <a:hlinkClick r:id="rId1"/>
          </p:cNvPr>
          <p:cNvSpPr/>
          <p:nvPr/>
        </p:nvSpPr>
        <p:spPr>
          <a:xfrm>
            <a:off x="5364000" y="306864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d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9" name="矩形 1" descr=""/>
          <p:cNvPicPr/>
          <p:nvPr/>
        </p:nvPicPr>
        <p:blipFill>
          <a:blip r:embed="rId2"/>
          <a:stretch/>
        </p:blipFill>
        <p:spPr>
          <a:xfrm>
            <a:off x="3274920" y="981000"/>
            <a:ext cx="2360880" cy="92232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2" descr=""/>
          <p:cNvPicPr/>
          <p:nvPr/>
        </p:nvPicPr>
        <p:blipFill>
          <a:blip r:embed="rId3"/>
          <a:stretch/>
        </p:blipFill>
        <p:spPr>
          <a:xfrm>
            <a:off x="1658880" y="2349360"/>
            <a:ext cx="3233880" cy="302436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>
            <a:hlinkClick r:id="rId4"/>
          </p:cNvPr>
          <p:cNvSpPr/>
          <p:nvPr/>
        </p:nvSpPr>
        <p:spPr>
          <a:xfrm>
            <a:off x="6499080" y="306864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d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Text Box 3">
            <a:hlinkClick r:id="rId5"/>
          </p:cNvPr>
          <p:cNvSpPr/>
          <p:nvPr/>
        </p:nvSpPr>
        <p:spPr>
          <a:xfrm>
            <a:off x="7572240" y="306864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d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3">
            <a:hlinkClick r:id="rId1"/>
          </p:cNvPr>
          <p:cNvSpPr/>
          <p:nvPr/>
        </p:nvSpPr>
        <p:spPr>
          <a:xfrm>
            <a:off x="4633920" y="2924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t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6" name="矩形 5" descr=""/>
          <p:cNvPicPr/>
          <p:nvPr/>
        </p:nvPicPr>
        <p:blipFill>
          <a:blip r:embed="rId2"/>
          <a:stretch/>
        </p:blipFill>
        <p:spPr>
          <a:xfrm>
            <a:off x="3274920" y="981000"/>
            <a:ext cx="2360880" cy="92232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1" descr=""/>
          <p:cNvPicPr/>
          <p:nvPr/>
        </p:nvPicPr>
        <p:blipFill>
          <a:blip r:embed="rId3"/>
          <a:stretch/>
        </p:blipFill>
        <p:spPr>
          <a:xfrm>
            <a:off x="1919160" y="2759040"/>
            <a:ext cx="1800360" cy="174312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>
            <a:hlinkClick r:id="rId4"/>
          </p:cNvPr>
          <p:cNvSpPr/>
          <p:nvPr/>
        </p:nvSpPr>
        <p:spPr>
          <a:xfrm>
            <a:off x="5651640" y="2924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t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3">
            <a:hlinkClick r:id="rId5"/>
          </p:cNvPr>
          <p:cNvSpPr/>
          <p:nvPr/>
        </p:nvSpPr>
        <p:spPr>
          <a:xfrm>
            <a:off x="6661080" y="2924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t</a:t>
            </a:r>
            <a:endParaRPr b="0" i="1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">
            <a:hlinkClick r:id="rId1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 Black"/>
                <a:ea typeface="楷体_GB2312"/>
              </a:rPr>
              <a:t>n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3" name="Picture 4" descr="yw1p12_n"/>
          <p:cNvPicPr/>
          <p:nvPr/>
        </p:nvPicPr>
        <p:blipFill>
          <a:blip r:embed="rId2"/>
          <a:stretch/>
        </p:blipFill>
        <p:spPr>
          <a:xfrm>
            <a:off x="2438280" y="1646280"/>
            <a:ext cx="4572000" cy="3840120"/>
          </a:xfrm>
          <a:prstGeom prst="rect">
            <a:avLst/>
          </a:prstGeom>
          <a:ln w="0">
            <a:noFill/>
          </a:ln>
        </p:spPr>
      </p:pic>
      <p:pic>
        <p:nvPicPr>
          <p:cNvPr id="534" name="矩形 5" descr=""/>
          <p:cNvPicPr/>
          <p:nvPr/>
        </p:nvPicPr>
        <p:blipFill>
          <a:blip r:embed="rId3"/>
          <a:stretch/>
        </p:blipFill>
        <p:spPr>
          <a:xfrm>
            <a:off x="3274920" y="981000"/>
            <a:ext cx="2360880" cy="922320"/>
          </a:xfrm>
          <a:prstGeom prst="rect">
            <a:avLst/>
          </a:prstGeom>
          <a:ln w="0">
            <a:noFill/>
          </a:ln>
        </p:spPr>
      </p:pic>
      <p:sp>
        <p:nvSpPr>
          <p:cNvPr id="53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3">
            <a:hlinkClick r:id="rId1"/>
          </p:cNvPr>
          <p:cNvSpPr/>
          <p:nvPr/>
        </p:nvSpPr>
        <p:spPr>
          <a:xfrm>
            <a:off x="4600440" y="31082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l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8" name="矩形 5" descr=""/>
          <p:cNvPicPr/>
          <p:nvPr/>
        </p:nvPicPr>
        <p:blipFill>
          <a:blip r:embed="rId2"/>
          <a:stretch/>
        </p:blipFill>
        <p:spPr>
          <a:xfrm>
            <a:off x="3274920" y="981000"/>
            <a:ext cx="2360880" cy="9223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" descr=""/>
          <p:cNvPicPr/>
          <p:nvPr/>
        </p:nvPicPr>
        <p:blipFill>
          <a:blip r:embed="rId3"/>
          <a:stretch/>
        </p:blipFill>
        <p:spPr>
          <a:xfrm>
            <a:off x="2124000" y="2759040"/>
            <a:ext cx="1857600" cy="17049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>
            <a:hlinkClick r:id="rId4"/>
          </p:cNvPr>
          <p:cNvSpPr/>
          <p:nvPr/>
        </p:nvSpPr>
        <p:spPr>
          <a:xfrm>
            <a:off x="5867280" y="31082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l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3">
            <a:hlinkClick r:id="rId5"/>
          </p:cNvPr>
          <p:cNvSpPr/>
          <p:nvPr/>
        </p:nvSpPr>
        <p:spPr>
          <a:xfrm>
            <a:off x="6972480" y="31082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l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yw1p12_z"/>
          <p:cNvPicPr/>
          <p:nvPr/>
        </p:nvPicPr>
        <p:blipFill>
          <a:blip r:embed="rId1"/>
          <a:stretch/>
        </p:blipFill>
        <p:spPr>
          <a:xfrm>
            <a:off x="0" y="2351160"/>
            <a:ext cx="4121280" cy="312732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"/>
          <p:cNvGrpSpPr/>
          <p:nvPr/>
        </p:nvGrpSpPr>
        <p:grpSpPr>
          <a:xfrm>
            <a:off x="4127400" y="1434960"/>
            <a:ext cx="4724280" cy="1981080"/>
            <a:chOff x="4127400" y="1434960"/>
            <a:chExt cx="4724280" cy="1981080"/>
          </a:xfrm>
        </p:grpSpPr>
        <p:sp>
          <p:nvSpPr>
            <p:cNvPr id="546" name="AutoShape 5"/>
            <p:cNvSpPr/>
            <p:nvPr/>
          </p:nvSpPr>
          <p:spPr>
            <a:xfrm>
              <a:off x="4127400" y="1434960"/>
              <a:ext cx="4724280" cy="1981080"/>
            </a:xfrm>
            <a:prstGeom prst="cloudCallout">
              <a:avLst>
                <a:gd name="adj1" fmla="val -31953"/>
                <a:gd name="adj2" fmla="val 78365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4660920" y="1663560"/>
              <a:ext cx="358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    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再看看图片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,</a:t>
              </a:r>
              <a:r>
                <a:rPr b="0" i="1" lang="zh-CN" sz="2800" spc="-1" strike="noStrike" u="sng">
                  <a:solidFill>
                    <a:srgbClr val="000000"/>
                  </a:solidFill>
                  <a:uFillTx/>
                  <a:latin typeface="宋体"/>
                  <a:ea typeface="楷体_GB2312"/>
                </a:rPr>
                <a:t>你能想到今天所学到的字母吗？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48" name="矩形 7" descr=""/>
          <p:cNvPicPr/>
          <p:nvPr/>
        </p:nvPicPr>
        <p:blipFill>
          <a:blip r:embed="rId2"/>
          <a:stretch/>
        </p:blipFill>
        <p:spPr>
          <a:xfrm>
            <a:off x="3274920" y="981000"/>
            <a:ext cx="2360880" cy="922320"/>
          </a:xfrm>
          <a:prstGeom prst="rect">
            <a:avLst/>
          </a:prstGeom>
          <a:ln w="0">
            <a:noFill/>
          </a:ln>
        </p:spPr>
      </p:pic>
      <p:sp>
        <p:nvSpPr>
          <p:cNvPr id="549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2852640" y="163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发音知识：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611280" y="2421000"/>
            <a:ext cx="78483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　　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发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n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时，舌尖顶住上齿龈，挡住气流，让气流通向鼻腔，从鼻孔出来，声带颤动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　　发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l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时，舌尖顶住上齿龈，不顶满，让气流从舌头出来，声带颤动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692440" y="87156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3165480" y="207972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一个门洞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n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2060640" y="198432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讷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765000" y="35784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l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2212920" y="49500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小木棒儿</a:t>
            </a:r>
            <a:r>
              <a:rPr b="0" i="1" lang="zh-CN" sz="8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l l l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612720" y="479736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勒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1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17:00Z</dcterms:created>
  <dc:creator/>
  <dc:description/>
  <dc:language>en-US</dc:language>
  <cp:lastModifiedBy>万润仪器贸易公司</cp:lastModifiedBy>
  <dcterms:modified xsi:type="dcterms:W3CDTF">2020-08-24T01:39:29Z</dcterms:modified>
  <cp:revision>5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